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2D7-F0CB-45CE-A125-E2839966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720-D882-4FF4-B5C4-9C909F77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FF0-5A53-444F-B78B-06A01B67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CB1-9206-4704-BDA3-3D065746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979-7F1D-400A-9BBB-37086F2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C0E-2ADA-4AC9-A52D-6D51C372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8CE-0F8B-4D02-8CB8-67B477C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F6E-A502-4201-93FC-F1DF6C25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F1E7-AB8E-47E5-9259-86D85F90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4CB-AC98-41BB-9B1C-E8E9661D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8EC-9B48-4068-8E41-C547E038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461-C2D9-48DF-B6DE-3E6A5ED9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551E-DFDF-4C20-A6F9-DC2F5A3BCD4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şama doğru şehir biraz serinled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amın saçları dökülmü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casının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ğlu ile buluştu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har, Türkçe defterini kaybetmi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rupa yakası, benim yaşamak istediğim yerdi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kitabı bana verd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ın saçları dalgalanıyor rüzgârda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f1ad"/>
          </a:solidFill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kızı, naziktir.</a:t>
            </a:r>
            <a:br>
              <a:rPr sz="4800"/>
            </a:b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okuyan bir toplum muyuz?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rılık, her şeyden yamandır.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ksüz çocukları bağrıma bastım.</a:t>
            </a:r>
            <a:br>
              <a:rPr sz="4800"/>
            </a:br>
            <a:br>
              <a:rPr sz="4800"/>
            </a:br>
            <a:r>
              <a:rPr b="1" lang="tr-T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ginin yeni kapağı güzelmiş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şam olunca sustururum herkesi, her şey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ğaçlar iki aydır sulanmıyo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nın kuzeyine doğru gitt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ur cuburlar, sağlığa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arlıdı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ık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a güvenmeyeceği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kadaşım, sofrayı hemen hazırla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emin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l reçeli,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zeldi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am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kada çok yoruluyo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1-01T21:47:39Z</dcterms:modified>
  <cp:revision>106</cp:revision>
  <dc:subject/>
  <dc:title>KONU 1</dc:title>
</cp:coreProperties>
</file>